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AE35-8CA4-4E6E-ACAC-C1FF58B40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77B2-A1A5-4E81-8DBB-1B421928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E3E8-F93C-4829-AB2C-F0BADC853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C7B9-C836-4DE7-B531-C1991E1D2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2C1B-89F5-4F66-9A74-7624E8359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75F0-E3CA-4F8F-AE54-E9CF0945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CB2D-7850-40C9-A2B9-5DAAA646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D39F-A7CD-4CD3-899D-B5F4C88A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86F28-93A6-439C-B42D-58D68441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36A7-9A71-48BD-B294-D5AF570A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F0418-5CCF-4693-826A-CE384329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EB2B-2725-4869-8714-329D21B1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DA492-819A-42A4-B3E1-F66C5831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9BAC-4A5B-4E9A-9FE9-D068EA3F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68BC-214E-4FFE-966A-6A675EBA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9397-5F00-44F3-A59E-48D55E037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6115-DC2B-4784-A8CD-CE84E5865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0BED-4351-4CB0-948C-95B44AC1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431E-5746-4446-820F-57F67BE1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628D-F4BC-489C-89F4-F1E00151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1D2E-13BE-429F-AD54-80E678C4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DD76-9D0B-45ED-8DEE-E031EBB0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009D-E6E2-4440-944C-1AA8EB2E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D047-2DED-4455-A0B5-35341A03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0B86-646F-4C4F-95A4-C8C7ED44A5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D44A-102E-41AD-A66A-70A0066ED67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144880" y="3182760"/>
            <a:ext cx="1641240" cy="1644840"/>
          </a:xfrm>
          <a:prstGeom prst="ellipse">
            <a:avLst/>
          </a:prstGeom>
          <a:solidFill>
            <a:srgbClr val="cccc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613320" y="1459080"/>
            <a:ext cx="4408200" cy="4408200"/>
          </a:xfrm>
          <a:prstGeom prst="ellipse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O 19115 –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58840" y="2230560"/>
            <a:ext cx="4341960" cy="4341600"/>
          </a:xfrm>
          <a:prstGeom prst="ellipse">
            <a:avLst/>
          </a:prstGeom>
          <a:solidFill>
            <a:srgbClr val="d8d8ec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O 19115/N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82960" y="3052800"/>
            <a:ext cx="2741760" cy="2741400"/>
          </a:xfrm>
          <a:prstGeom prst="ellipse">
            <a:avLst/>
          </a:prstGeom>
          <a:solidFill>
            <a:srgbClr val="80808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GDC Remo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sing Exten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Evolution of  Metadata Standard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82880" y="3421080"/>
            <a:ext cx="3198600" cy="3198960"/>
          </a:xfrm>
          <a:prstGeom prst="ellipse">
            <a:avLst/>
          </a:prstGeom>
          <a:solidFill>
            <a:srgbClr val="7e9ce8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G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56040" y="3919680"/>
            <a:ext cx="1641600" cy="1644480"/>
          </a:xfrm>
          <a:prstGeom prst="ellipse">
            <a:avLst/>
          </a:prstGeom>
          <a:solidFill>
            <a:srgbClr val="cccc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le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0:53:13Z</dcterms:created>
  <dc:creator>Lynda Wayne</dc:creator>
  <dc:description/>
  <dc:language>en-US</dc:language>
  <cp:lastModifiedBy>Ted Habermnn</cp:lastModifiedBy>
  <dcterms:modified xsi:type="dcterms:W3CDTF">2007-08-02T17:07:53Z</dcterms:modified>
  <cp:revision>52</cp:revision>
  <dc:subject/>
  <dc:title>FGDC Future Directions: Metadata Performance Indicators</dc:title>
</cp:coreProperties>
</file>